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E30-3C6D-45EC-A01F-DF19135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949-74FF-4092-9712-AB6AB9D1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E7DB3-5647-45B4-A94A-96B03037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EC02B-1D02-41D0-AF9D-61858153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8517E-9A32-4312-B02F-8DAFD45D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7D02D-E1A9-47B2-A693-81E973E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C3415-04BB-42FE-A21B-A363E5B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C666A-3BD4-404C-BE8B-EDABCEBD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11F5C-025A-43B3-94E7-767BC2CC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890FD-FDAE-444F-81A6-8A3856B7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BC80B-1E4A-4027-9C96-F37CC842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336210-DB70-4D6A-B01B-707F85AA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E9B-DBD5-4843-863B-50163845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1280D-F43D-4C36-A15C-C32072E6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264A3-6086-4C64-AB25-1097760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836061-A6B2-450B-917F-E0BBFD9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DAC02F-9F72-42BF-891F-56690D09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BD74A-9457-4353-A6EF-70F1E80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261B6-CDE9-4D87-9448-CCB0A45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D43F4-A11F-4D5C-951D-D0C7BDA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56302-7302-43B3-85D7-897AB18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DB6935-595B-41F2-8DB1-1DC99C8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A1C2F7-3B9A-4226-BE1D-CDDC9BCF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325-8372-48FF-BE64-F6544D93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C6603-3351-4778-90EE-256F40ED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5598F5-A66F-4098-85C1-586E5C3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9E129-3784-41CC-A2DD-6B7EA548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AF5DA4-CFCF-4898-A8F6-1653E6F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330E18-5DAA-4BA7-96B2-0128C4CE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640CA2-15F6-4662-996F-6CEDDCA7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FDDA8-9033-41B5-BAB3-09A94B1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44037-FA67-4FB3-8861-8FAF9112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73C35A-756E-4C8E-9326-1290AF7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BACF69-B835-4788-ADB1-23BD04F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ECACF-FDC3-48FB-8114-723EB22DC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4E69F-89E2-4930-BAB4-6A557EFD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9325C-63A9-4662-A944-0064CC40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C7CE3A-022C-4958-93DA-748C9990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5EE75A-78F7-4D89-BA72-7B69BE3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1A04ED-6A17-465A-9E29-600FF7B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EEE540-7789-4504-AEA1-228D20B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FECB0-E780-4817-ACAE-835BB167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151098-1D02-485B-8C63-F055BECF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6DD581-6FA3-42AD-A31B-00E8C35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43C97B-6314-4238-B532-153A36E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241F-A17F-4F41-8F10-C2C2EF67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1E9C44-462D-47A1-BD30-CD1A0AA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DBD3BD-720F-4CC4-930C-98A36D4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1438E1-E141-4228-8D38-C9531285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185F71-93FD-42F6-A537-EA8586AF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EB4684-1DA0-43A9-A646-E7F319A9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C2FF1-D29C-4D29-9904-5D1382F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EB6DA-1505-4D76-B947-BC976D1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14221-0B80-4CAE-B7F6-AC19B701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7681E-CBF0-4B99-81CF-B0C3492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D9CA-01EB-4309-B9B6-AF5F084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9C3-1EA3-41F5-A49B-FFBC1AD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6F2D-833D-482D-B821-891313AF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0EDEE-15F7-4946-8E92-008D020B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D9ED7-07B9-4CA6-B4ED-B5DF3A6D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208C6-4D2B-494B-82D0-7F7CDD4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B166E-8610-4F6D-8E5E-F59C061D9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D2317-D277-43C9-BD75-94B13C55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7290C-A073-44A9-8120-2C9ADFB1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9B4DD-E850-41C1-B292-20758B7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34373-6CE8-4951-874C-E195A67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36343-F30E-4F01-AFB1-B061410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63C-3CF4-472D-AB10-FA1DAFD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C3B16-4557-42BA-86DD-C3864CA2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E254C-1487-48D4-A39C-D136039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40BE0-BDB3-45EE-B6E9-F9DE95D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E77A7-67C9-4A7B-AC9F-A66F9C6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34AEB-4ABF-4AE2-A7F4-BCD15F6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17462-8A4B-4C3B-8C74-26E93459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AA9E7-7D66-441A-88B5-2F9AFE25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013CC-2BC9-4E89-9D3F-CC8C7FB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CFFC2-FA12-4E8C-8ACE-138B904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8F9E7-AE7C-4AF6-A70D-5930058D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384-BF5D-4C4A-91D0-3838358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084A0-4CEF-4FC2-9DAD-7668FA0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F8901-A242-4487-ABA8-5DADE656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1F852-DC2F-465F-8841-F9B2DCC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94FFF-391F-478D-A5AA-634ADD1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7AE43-CB55-4F8A-A1C7-8B476D0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64239-F0E7-4E16-854D-250EF90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5C464-631F-46B2-B139-F5C97DF3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3BB51-BF04-446B-A077-A5D0D3F9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0C1B5-7621-43CC-8A69-56794E72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143C9-ADEE-4B51-A9DF-4A06DC08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8B-7E14-4B1C-897A-85129AF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FFB70-FDDD-4D18-BDEC-BEB5421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66DD4-BE58-4209-A824-7B8CADD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29F76-8C7E-408A-A2A7-A05FC45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778DE-8721-4610-B1C9-635F4221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43D11-A8D1-4288-AE9F-2B82E697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1F904-0C57-40B3-876D-DA051E2F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3191F-4E55-44BD-BA9D-5E6D3CE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C8961-0D4F-4714-995D-02BA036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D892F-BB5D-400F-8D8A-C2A58F82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61C1E-7A56-488A-ADA9-27C871FA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DBF-4703-42D8-923C-97E1D1F0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3C1E2-9F2B-44EB-9B38-17F2CF74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758BC-33D1-4C49-B709-B38092AA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AAD9C-6978-43A3-ADF5-4BBFDF75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1DDEE-AEB8-448B-960A-48154D11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6A05E-6485-4B90-82EA-83C3AC8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C4471-E74B-409D-8A96-5721CE3F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DEE4C-EC63-49D4-A848-E445AC9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3A856-3DB5-4773-8DF1-0BCF988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E14C3-67BF-4798-8693-130F275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347C1-695A-4FB4-B93B-B158D261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973-9165-44E6-9E1C-FED77FE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653D6-0EAC-46B5-9134-B0BE734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4B9CC-1062-4481-9DDF-D154F939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48962-8C4B-436F-A91F-C416DE44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21310-E110-42A7-8969-F3A20984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9ECDE-0436-435B-A15C-E50FB32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FC17F-221A-44AD-BB82-F0882D4F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CCB8A-67ED-4FD6-A33F-253FA7F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03492-D541-4532-B73F-43EFD7FB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0B34C-95EC-4706-A1C5-8A7B003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A8808-6980-4538-A724-1D30A44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278-0CC1-4E25-8AEB-37F1EE2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24F9A-7121-48DB-B7A6-8F782D6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95D28-AE8F-48EC-926B-674243B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250B9-18E5-4131-A6B3-1D93896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C8F74-4BB7-4BE9-ACC7-E1CCC8AF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078FF-272C-4C21-8098-9869977F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0CF406-0211-4E1C-9FA1-48E19075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C3ACD-9DF8-4917-BCDF-A3EF50C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AF5A7-3D2F-482E-891A-BF7F42DF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FE6AD-B22B-4806-AB3E-A65773B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FC0B4-96B4-48F8-94C0-B7FA1B51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848-1218-4A9B-8F99-E67E7DF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F24E5-D7FB-43E1-AE3C-33BDF51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F5B45-94DA-4B3A-A004-9ED501C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78B62-1B59-4484-9584-93321A78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B762D1-B36F-4DE0-99B6-10DD796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470C3-4AF6-4B14-A2F0-E4CCC01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FA2FD-A5AA-4847-A014-A9D66398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FBD9C1-9A4D-473E-8910-C88F7D0D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E6988-B75C-4EC4-9059-58B958B9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5DC040-C0C6-4A39-AF87-971C6D23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6508F-8C91-4E27-99E3-1A6C2BD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57F-44D5-480F-8AAB-CFE3777F136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4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1A4-557B-4296-AC18-E8FD8C370F4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A701-93B4-4C53-B97C-A6AA155FDB4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E77-FBB7-4685-89B4-3B15ADAF5BA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6D9-F7AE-455E-9470-6D2BB9D1E8F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0A4-9688-48DE-A20C-EDB77B5B38C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6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BB0-C460-4B69-A4D4-6E806819DEE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4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261-3CF9-49C8-9F53-D66EACBDED8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7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A64D-1212-4581-9ECA-2683F29A9AC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0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D8F-3A7A-4753-A465-D55292D152B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8AB-5691-4535-8E20-B2FC2FAF0F2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A933-A737-479F-A5C2-409395CE23F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tcenter.org/HurrWRF/users/downloads/" TargetMode="External"/><Relationship Id="rId2" Type="http://schemas.openxmlformats.org/officeDocument/2006/relationships/hyperlink" Target="http://www.dtcenter.org/HurrWRF/users/downloads/" TargetMode="External"/><Relationship Id="rId3" Type="http://schemas.openxmlformats.org/officeDocument/2006/relationships/hyperlink" Target="http://www.dtcenter.org/HurrWRF/users/downloads/" TargetMode="External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320" y="1218960"/>
            <a:ext cx="8991360" cy="146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Franklin Gothic Book"/>
              </a:rPr>
              <a:t>DTC HWRF work updat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Ligia Bernardet, Shaowu Bao, Tim Brown, Mrinal Biswas,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Don Stark and Laurie Carson 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August 18 2011 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DTC T&amp;E test for HWRF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 2011 Operational Capability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114800" cy="3179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4496040" cy="3475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724280" y="1676520"/>
            <a:ext cx="403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D33: DTC V3.3 HW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Arial"/>
              </a:rPr>
              <a:t>H21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EMC 2011 operational HW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4800600"/>
            <a:ext cx="3810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33 track foreca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adation in Atlantic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ment in East 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Impact of I/O format</a:t>
            </a:r>
            <a:br>
              <a:rPr sz="3600"/>
            </a:b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21AB: binary; 21AN: NetCDF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the only difference is I/O format</a:t>
            </a:r>
            <a:br>
              <a:rPr sz="1600"/>
            </a:br>
            <a:r>
              <a:rPr b="0" lang="en-US" sz="1400" spc="-1" strike="noStrike">
                <a:solidFill>
                  <a:srgbClr val="1f497d"/>
                </a:solidFill>
                <a:latin typeface="Franklin Gothic Book"/>
              </a:rPr>
              <a:t>(code: EMC 2011 operational; Machine: EMC Vapor)</a:t>
            </a:r>
            <a:endParaRPr b="0" lang="en-US" sz="1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7760" cy="3887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447920" y="5791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/O format has impact on HWRF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Impact of platform</a:t>
            </a:r>
            <a:br>
              <a:rPr sz="3600"/>
            </a:br>
            <a:r>
              <a:rPr b="0" lang="en-US" sz="1600" spc="-1" strike="noStrike">
                <a:solidFill>
                  <a:srgbClr val="17e707"/>
                </a:solidFill>
                <a:latin typeface="Franklin Gothic Book"/>
              </a:rPr>
              <a:t>H21J</a:t>
            </a: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: operational HWRF on Jet 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Franklin Gothic Book"/>
              </a:rPr>
              <a:t>H21A</a:t>
            </a: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: operational HWRF on IBM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the only difference between H21J and H21A is the platform</a:t>
            </a:r>
            <a:endParaRPr b="0" lang="en-US" sz="1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7760" cy="3887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19320" y="1371600"/>
            <a:ext cx="7162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5791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tform has impact on HWRF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Franklin Gothic Book"/>
              </a:rPr>
              <a:t>Is the SAS “out-of bounds” bug responsible for differences between platforms?</a:t>
            </a: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 </a:t>
            </a:r>
            <a:br>
              <a:rPr sz="3600"/>
            </a:br>
            <a:r>
              <a:rPr b="0" lang="en-US" sz="1600" spc="-1" strike="noStrike">
                <a:solidFill>
                  <a:srgbClr val="ff3300"/>
                </a:solidFill>
                <a:latin typeface="Franklin Gothic Book"/>
              </a:rPr>
              <a:t>JFIX</a:t>
            </a: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: HWRF with SAS bug fix on Jet</a:t>
            </a:r>
            <a:br>
              <a:rPr sz="1600"/>
            </a:br>
            <a:r>
              <a:rPr b="0" lang="en-US" sz="1600" spc="-1" strike="noStrike">
                <a:solidFill>
                  <a:srgbClr val="f0f442"/>
                </a:solidFill>
                <a:latin typeface="Franklin Gothic Book"/>
              </a:rPr>
              <a:t>VFIX</a:t>
            </a:r>
            <a:r>
              <a:rPr b="0" lang="en-US" sz="1600" spc="-1" strike="noStrike">
                <a:solidFill>
                  <a:srgbClr val="1f497d"/>
                </a:solidFill>
                <a:latin typeface="Franklin Gothic Book"/>
              </a:rPr>
              <a:t>: HWRF with SAS bug fix on IBM</a:t>
            </a:r>
            <a:endParaRPr b="0" lang="en-US" sz="1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027760" cy="39783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1447920" y="5791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SAS Bugfix, HWRF forecasts became close on Jet and 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release 3.3a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WRF model upgraded to WRF v3.3a, the HWRF 2011 Operational Capability added to WRF v3.3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New Simplified Arakawa Schubert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(SAS)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cumulus parameterization scheme upgraded to the scheme used in the GFS model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Surface  momentum and enthalpy flux calculation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modified to better match observ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CO2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transmission coefficient now calculated at run time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reliminary development towards optional </a:t>
            </a: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third moving nest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domain capability adde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reliminary development towards  alternate </a:t>
            </a:r>
            <a:r>
              <a:rPr b="0" lang="en-US" sz="1400" spc="-1" strike="noStrike">
                <a:solidFill>
                  <a:srgbClr val="ff3300"/>
                </a:solidFill>
                <a:latin typeface="Perpetua"/>
              </a:rPr>
              <a:t>vortex following algorithm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adde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Perpetua"/>
              </a:rPr>
              <a:t>Vortex initialization algorithm</a:t>
            </a: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 revised with improved storm size correction and improved initial mass-wind balance. Vortex improvements stem from HWRF work.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Grid-Point Statistical Interpolation (</a:t>
            </a:r>
            <a:r>
              <a:rPr b="0" lang="en-US" sz="1500" spc="-1" strike="noStrike">
                <a:solidFill>
                  <a:srgbClr val="ff3300"/>
                </a:solidFill>
                <a:latin typeface="Perpetua"/>
              </a:rPr>
              <a:t>GSI</a:t>
            </a: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 v2.5) data assimilation capability added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Perpetua"/>
              </a:rPr>
              <a:t>East Atlantic domain</a:t>
            </a: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 for the ocean component Princeton Ocean Model (POM) added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Postprocessing upgraded from WPP to Unified Post Processor (</a:t>
            </a:r>
            <a:r>
              <a:rPr b="0" lang="en-US" sz="1500" spc="-1" strike="noStrike">
                <a:solidFill>
                  <a:srgbClr val="ff3300"/>
                </a:solidFill>
                <a:latin typeface="Perpetua"/>
              </a:rPr>
              <a:t>UPP</a:t>
            </a: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Perpetua"/>
              </a:rPr>
              <a:t>Other bug fixe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52578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dtcenter.org/HurrWRF/users/downloads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Code Management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C has decided on a new code management system to be facilitated and supported by DTC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Perpetua"/>
              </a:rPr>
              <a:t>Goals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acilitate transfer of code  between EMC, DTC, HWRF developers and HWRF us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uce the overhead in transferring cod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inimize human err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tect integrity of the cod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tus: under preliminary testing. Developers will be contacted by DTC soon with more information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5:58:35Z</dcterms:created>
  <dc:creator>shaowu.bao</dc:creator>
  <dc:description/>
  <dc:language>en-US</dc:language>
  <cp:lastModifiedBy>shaowu.bao</cp:lastModifiedBy>
  <dcterms:modified xsi:type="dcterms:W3CDTF">2011-08-17T16:08:06Z</dcterms:modified>
  <cp:revision>5</cp:revision>
  <dc:subject/>
  <dc:title>DTC HWRF work update</dc:title>
</cp:coreProperties>
</file>